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B60D-73A4-432A-89C7-833076D4E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C6B-0A81-4A91-AF9B-6244EA17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59F-9C31-4D19-8152-9D509E42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3E0-C89A-42CB-88D5-D6573D70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E45-1897-47DC-9FA7-89F4A5AB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0D90-84C0-476A-9E85-C5DDD1B5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F238-57DA-4B19-B2E5-586C01FD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1302-F1EB-4B4A-913B-07B83D05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DFAB-5392-4067-984F-168F2A87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96C3-AEF4-4430-BDC4-ADEEFCDC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4478-96CA-414E-8DDD-C6E20A28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84DA-CE03-4789-BB28-FE9DF5E1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4C5-510C-437C-82EC-62AB306C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64A0-E0DA-4E9B-A2BB-7887674B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6D26-80CC-4970-B6BA-32B34375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B57D-451F-424B-A0E5-9F822891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4C30-5953-4167-AD4F-3128053F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ECA5-1190-4445-9319-5C3DF130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AF5-6B74-4CD7-ABFE-50756B71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642-3AB3-4B67-B271-EE627BB2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F39-2349-4AFB-9D1B-DEC7F62D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ADA-E6F4-437B-852C-FFB29236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E04-B157-4BB9-B687-1D74A533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158-52C7-43EA-A4CE-4BD7A6A5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1C4-105C-4128-99A8-4E20AD15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4065-6229-4177-9A89-EA4DC3404C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2A3A-7092-41EB-A7A8-9B4046390C4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13.xml"/><Relationship Id="rId8" Type="http://schemas.openxmlformats.org/officeDocument/2006/relationships/slide" Target="slide18.xml"/><Relationship Id="rId9" Type="http://schemas.openxmlformats.org/officeDocument/2006/relationships/slide" Target="slide4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6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457200" y="1371600"/>
          <a:ext cx="8381880" cy="525780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urren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sh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etin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 txBox="1"/>
          <p:nvPr/>
        </p:nvSpPr>
        <p:spPr>
          <a:xfrm>
            <a:off x="2286000" y="380880"/>
            <a:ext cx="5943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rance Jeopard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1"/>
          <a:stretch/>
        </p:blipFill>
        <p:spPr>
          <a:xfrm>
            <a:off x="152280" y="152280"/>
            <a:ext cx="175284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39200" y="1752480"/>
            <a:ext cx="53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ing out to eat is norm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expensive in Franc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12920" y="1752480"/>
            <a:ext cx="49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 Euros is equal to ab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$_______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nt: 1 Euro = $1.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55800" y="1828800"/>
            <a:ext cx="7352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north and in the wint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n should wear what kind 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its when in the business atmosp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Br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rip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9920" y="1905120"/>
            <a:ext cx="6781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men should avoid wea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kind of jewelry in the busi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mosp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r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lashy/A lot 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12560" y="1752480"/>
            <a:ext cx="473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_ colors are m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eptable to w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igh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rk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gh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14000" y="1752480"/>
            <a:ext cx="567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kind of fabrics are m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eptable to we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ttern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rip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ecke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14360" y="1752480"/>
            <a:ext cx="558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aring conservative cloth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more acceptab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12920" y="1752480"/>
            <a:ext cx="539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eek kissing is not norma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greeting someon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9760" y="1752480"/>
            <a:ext cx="716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giving a handshake it should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than one pump to show respe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1752480"/>
            <a:ext cx="671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invited to dinner by a French person it is expected that you bring a gift for that pers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219320"/>
            <a:ext cx="7010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ost popular religion in Fran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w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isti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man Catholic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sl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1752480"/>
            <a:ext cx="721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 bring a gift when invi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dinner by a French person these items are acceptab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lowers, plants, chocola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66680" y="1752480"/>
            <a:ext cx="775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‘cheek kissing’ is performed actual kissing of the cheek takes pl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175248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ench soil is good for growing fresh fruits, vegetables, herbs, and grains almost year-r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9240" y="1371600"/>
            <a:ext cx="518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n France is sea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ost popul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In the no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ong the co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sou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14360" y="1752480"/>
            <a:ext cx="542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nails are extremely pop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the coast of Fr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25800" y="1752480"/>
            <a:ext cx="674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 person eats is not believ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reflect their heritage, birth pl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cial status, and heal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15640" y="1828800"/>
            <a:ext cx="724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wo of the five seafoods that 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tremely popular on the co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Fr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03760" y="1143000"/>
            <a:ext cx="5765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 is the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ost pop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igion in Fr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w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isti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man Catholic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sl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46240" y="1752480"/>
            <a:ext cx="608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ost popular religion i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ance is Jewis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07480" y="1752480"/>
            <a:ext cx="505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istian is the least m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pular religion in Fr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6840" y="1828800"/>
            <a:ext cx="7322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______% of the pop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France practice Roman Catholicis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3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5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7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13280" y="1752480"/>
            <a:ext cx="487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urrency of France 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lled the _____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752480"/>
            <a:ext cx="434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90720" y="144792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ipping a waiter or waitress 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cessary because the tip is not included in the b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1752480"/>
            <a:ext cx="8076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Euro is equal to approximat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$______ in Americ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$1.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$1.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$1.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$1.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corneliust</cp:lastModifiedBy>
  <dcterms:modified xsi:type="dcterms:W3CDTF">2008-11-19T15:40:28Z</dcterms:modified>
  <cp:revision>34</cp:revision>
  <dc:subject/>
  <dc:title>Slide 1</dc:title>
</cp:coreProperties>
</file>